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36BC-DC6A-4614-919C-1349628A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BEC2-B840-4645-A139-5D95572A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8E50-74E1-4A67-9272-AAA41BA6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2B5E-1735-4022-BE9C-2681DEAA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BDE9-F460-4F97-9B98-265A5C0F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96F3-91CC-41C7-877D-2291ECD5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15B9-1840-4A8A-A632-24A7AB6F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D411-3AEE-42F9-A9AE-287BBDB4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08FF-0DAA-4286-B56C-2424E5CC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8198-0654-4C55-B485-07063842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C589-7B0D-475F-8A11-B6B79913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F96E-8424-4A3B-BE2E-03E83E14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6037-C536-45C9-BB6E-99C8BAD4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DBB0-2A0E-4597-A7BA-3B913A33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243F-B1ED-46C4-A528-4B03DEC8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31CB-4AA7-4000-9679-B55C5F4F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AE76-36C1-4B06-B1C9-D331101D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CE08-1F4F-4B53-B77D-41AFB521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BB84-BC07-4971-AFAD-9D387D46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CC43-F52B-4EE5-BE6D-8643D33B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9D83-5513-4CEF-AEFC-917C470F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F714-DD32-48AF-945C-A37234B3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799F-92FD-4A64-A430-61735A93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338E-9F2D-4FBD-8860-F1CE3706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2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8064-80D7-4345-AA53-42561280BD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2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3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7700-DD87-4E6D-9231-E248C090DA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day we will learn to do a 9 panel storyboard and how improv is a necessary component of any good prank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 in any story, a good improvisation (improv) has characters, a setting, conflict, and a beginning, middle, and an e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4 people (a nurse, a patient, a baby, and a mother).  Then use improv to act out the following 9 panel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 A female nurse talks to a male patient in front of a hospital on a hi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A woman in a car slowly drives up to the hospit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Suddenly, the woman jumps out of the car, lays a crying baby dow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 The woman gets back in her car and speeds of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The baby starts to roll down the hi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The nurse and patient run down the hill after the baby and catch it just before it gets hit by a c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 The nurse holds the bab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 The nurse pulls back the blanket to see that it’s a do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 The nurse stares at the baby in shoc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Like in any story, a good improvisation (improv) has, at least, what four elemen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oujou</dc:creator>
  <dc:description/>
  <dc:language>en-US</dc:language>
  <cp:lastModifiedBy>Jou Jou</cp:lastModifiedBy>
  <dcterms:modified xsi:type="dcterms:W3CDTF">2010-11-30T14:32:42Z</dcterms:modified>
  <cp:revision>54</cp:revision>
  <dc:subject/>
  <dc:title>Legacy Life Skills</dc:title>
</cp:coreProperties>
</file>